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20D-7AAF-4DBD-8A9F-7C4015DC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405-E56A-4B5E-860D-532F1343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E34-00AE-45E2-B70A-5D670694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508-ECF7-4E02-93EE-73CA6818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C857-CAB6-4AC2-B3E7-66120BEE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C6A1-32A3-43D8-A3DF-33EBE00D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A33B-031E-4293-86C9-F357AEEA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8FCC-C482-4B2C-9991-3146FCAD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79C6-2746-4088-A8C8-87B8F20F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3959-67FD-4FB1-9979-DBE60DFE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8298-52C2-4A4C-9220-CB9F2213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BA7-89A5-405F-A8C9-2A207BC9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FB35-B96A-4AAE-9B81-84708E3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1DAF-42A4-4810-8A97-F3E332A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72EE-662C-450A-9DDB-1B902E12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E5BA-E30A-427B-BAE1-E886D01C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44CC-9157-4EDE-B681-9068F4F5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6096-6B0B-48CC-8C83-81B9A6E6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9A37-2A40-416F-A1B3-C3BE4C3A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F831-86E3-4805-B178-29051363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7319B-1CE0-4A22-98F0-02B0047F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9B04-23C1-4ABA-8C6F-66D62087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D48-64E8-4D2F-8D8D-FF95D324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09C3-669E-49AA-A581-14987B98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E65D-3D3F-4AF9-9EF8-6587B23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0BD1-AA24-4482-83F3-3B953641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98A4-60C7-4A2C-B15B-D15E981A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25EC-41B6-41F3-A06A-3BD45948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18F2-02FC-4628-B27F-78D0126F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5C13-FB28-4C82-B5F0-7274B0CD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AC963-059D-4EC4-8D57-8DDFD5EB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6BEA-2579-41AD-9A72-AD3A15AF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5C89C-0FBE-473B-AF1D-F950DC66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193-42B5-481E-BC1F-D901FDC1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554F2-B521-4CA8-9578-8003EB55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EB8D-DFFE-4794-B7C9-CF482F6C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D6B2C-35CF-4757-B3DB-E5F9B9A7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95E84-291E-453A-AE23-C50747D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85C3-A126-4BE3-9953-01E38687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A256-6DF3-44D7-9273-3671F906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3D4E-3B6A-499D-90A0-5E937A63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B117-A544-46D5-9FFC-BC3EFB31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CAA0-58A5-4D93-87A0-A7ABEE37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D6A1-EB5D-44ED-87E8-66D696B7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B38-1B45-4A76-9B45-D97DE3F7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719C-CC61-44DD-98D5-4B4BA9E7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3A59-33C3-442A-8A53-26A67D5B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7BDD9-6526-4660-A068-D170E070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B030C-BF26-470A-B66C-C04F0493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D5AED-33F1-4047-A6EE-D195907C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E28C-C799-42AD-9A2D-0AC0F0E0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7C70-CC7D-4016-B27D-C80B6E5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6C18F-5159-4B9B-9B3B-9F9DE168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FD65-09FE-4D18-8A12-A5D70123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F0032-3ED9-410E-9793-3736578B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CB5-4B92-4267-AD55-D1E139F2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EB754-8194-4A8C-B5B1-AFE4E066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49D88-B14A-4D7D-9EDA-7D4385A5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01284-5609-4E99-BE9C-4293B8F2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AA80-41CC-41A6-90CF-5CA42476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BEF19-064B-40BF-BF73-FC773F2B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A7355-21A6-43F1-AFD3-EE28A815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53461-7C45-409A-9C30-702624B2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0E9EB-459E-4DE2-BBA1-6D73040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6259E-E14C-4076-8B77-B6DAF5D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63B5C-750C-47ED-BB61-8E110BE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06A-BB09-4840-A664-3048C127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F6826-2A36-4846-A90C-C3B36BB7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83C3A-3CFE-4A06-9103-6A9E0CC0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2AEDD-28F2-429E-AFAF-E7FDF4F3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30AE5-67B3-468A-9A33-7FF1E256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858D4-E1D4-42D1-87F4-58E34FC4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38A51-0F55-4A84-8BBB-1BF9E653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CCD2A-8149-4C8A-873D-25EB951D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B9140-895B-4DAB-B51E-7C489995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4566-998E-4159-8179-7227BBBF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2E6FD-0CB2-4EA3-A6EC-C3C36B49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153-5D8B-41FC-8FFA-5BC8BA6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B2CA-3DCB-437A-8103-4852E50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D427A-11D3-4A43-95C3-F73EC8D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92C94-C0A4-4182-A656-C5FD0692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C39C9-C15A-46B0-8069-85B94FF7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4BB31-EEC9-461B-BA98-3C03BA33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A726F-D708-4AF9-9CFA-A6BA0982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EA87E-20F9-4E4D-80C0-6212EE00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D2472-075E-4A46-8F3F-C1DD0CDE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F76C4-7D60-43E2-9F79-DA2501B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F561B-1DE8-42BF-8B40-5EEFF1D9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C6A-9DD6-458E-9E7E-40AEFA7A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879C7-06B0-42DE-B146-1C0B225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8C717-581C-4FDF-827B-3F6CB3E8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B081B-5B60-4120-A6E0-B8D782F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1DC3C-58A7-4F02-85CC-D5CBCE26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35E11-D964-437F-BCCF-0880B4A7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7EC2D-5FD2-43DB-9C89-E5376DBE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347F2-8468-4A6C-A8F6-6957F94B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71F5-B49E-462C-8989-30DABF6802A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1971-AEEB-4CA2-9B44-87DF62EE8C33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2DF2-ACA9-4E1A-A424-E8080D9731CC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E198-0793-41F6-9815-5CEC178E6943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F6BF-6A72-45E8-8857-C8AF2119838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F474-F478-40CA-8463-394F0A8C61FB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0828-F349-4E8F-BBE0-A0235BFA5FC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FA8-E021-4E21-9A2B-E894B1DF3DD9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F913-F472-4411-963B-755D3A047CB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7B53-EC4F-4C65-863C-380AFF0392F3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F09D-29DD-451F-B836-AF3EBCBC62B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F05B-5564-4B2F-B4C3-8781A2EADBC5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6158-0DB1-4AA0-98AF-D85A0F1B7BA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846E-F0D9-46DE-B444-E6D11D36FF98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E998-B6DD-4D3F-A181-04859005C883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49FB-9521-4BEC-AB5C-89BCF420A4E9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nit 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E90F-ECE2-4530-A66B-FFA9B46D8553}" type="slidenum">
              <a:rPr b="0" lang="en-C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1981080" y="3048120"/>
            <a:ext cx="121932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3049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1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C42B-7A11-424E-8FC3-0C35CF798777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981080" y="3048120"/>
            <a:ext cx="121932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1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51C2-049A-43CB-9D13-0BAE9FDC3ECA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1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4AA1-0C43-4ADE-8C32-8A9B5BFAB0A6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D898-8F5B-4140-A486-E22914E47E75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4706-9AF1-4DE6-B529-84D18E591B9A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18ED-2EBA-4192-B7E0-73E82FF07CCD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4B8E-794D-4AAA-A2C7-1FC6FDC094C3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0FCD-7FF8-4D0B-857D-0A736BD8989B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1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8ECA-17A0-487C-9E4F-E179A9B7823B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1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6414-0179-435B-94CF-35B217A835CD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 government’s basic task is to make a set of laws to allow people in a society to live together in peace and security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 government also makes sure laws are obeyed and sets up punishments or penalties that protect the interests of the people as a whole against the greed or ambition of any one person or any one grou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8D9B-5E6C-4A3B-AA33-BA318A6C9492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9ACD-0159-4970-9E97-B50058B89AA3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53E9-C273-4F0B-A1F5-E56606E3F690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B48A-E360-4A53-8378-9691CE73CEAA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4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5D63-0AA9-4C99-89FD-A0904A30B1DE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2AEC-D22A-4012-BD21-28B47D62ECCF}" type="slidenum">
              <a:rPr b="0" lang="en-C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re are many different kinds of governments but they all carry out three main tasks or function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legisla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2)executive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judicial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A8F2-E02F-4FB8-A4D5-F8CFCD7245DC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legislative function is the making of laws or the passing of legislation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2177-CBE8-46AE-880C-137F020A2DD1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executive function is putting the laws into effect on a daily basi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71C9-6D20-4BBF-BDF4-4BE0FEFCCC1D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judicial function is to decide if an individual has broken society’s laws and to punish the guil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B7A0-56EA-471E-9BDF-B3CF1B0F65AD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762120" y="5261040"/>
            <a:ext cx="7772400" cy="14684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Our Parliamentary Government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3CE5-0B20-4703-81FC-72877308B897}" type="slidenum">
              <a:rPr b="0" lang="en-C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"/>
          <p:cNvSpPr/>
          <p:nvPr/>
        </p:nvSpPr>
        <p:spPr>
          <a:xfrm>
            <a:off x="1143000" y="2209680"/>
            <a:ext cx="114300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981080" y="3048120"/>
            <a:ext cx="121932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3049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A88F-358C-46B0-B402-E7D2C92EE8B6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7:11:57Z</dcterms:created>
  <dc:creator>ladmin</dc:creator>
  <dc:description/>
  <dc:language>en-US</dc:language>
  <cp:lastModifiedBy>Terry, Sean J. (ASD-E)</cp:lastModifiedBy>
  <cp:lastPrinted>2018-01-16T14:53:13Z</cp:lastPrinted>
  <dcterms:modified xsi:type="dcterms:W3CDTF">2018-01-16T16:01:53Z</dcterms:modified>
  <cp:revision>47</cp:revision>
  <dc:subject/>
  <dc:title>Types of Government</dc:title>
</cp:coreProperties>
</file>